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ralarmoff.wav" ContentType="audio/x-wav"/>
  <Override PartName="/ppt/media/lzipup01.wav" ContentType="audio/x-wav"/>
  <Override PartName="/ppt/media/zipdn102.wav" ContentType="audio/x-wav"/>
  <Override PartName="/ppt/media/highchime.wav" ContentType="audio/x-wav"/>
  <Override PartName="/ppt/media/bserie06.wav" ContentType="audio/x-wav"/>
  <Override PartName="/ppt/media/jetflyby2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5EF9-E3A5-4364-8124-3EEB38A85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06C7-6965-4BCD-83C3-282507C19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065A-F8DD-457D-869D-F8026B31F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C69E-AF40-457F-BC38-E8C176271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E25C-1CA9-412F-8720-0CAE167A5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7E91-03DD-4130-9E96-B6285C07B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D14D-D824-410D-B132-EFF7F994E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FC52-F70D-4552-BFD5-594B724F5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1E8E-B331-4F19-8432-B60C744F2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C835-A683-4E14-8E4A-22B14EF81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1ABB-09F9-4F43-91E5-B6FCE9923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34B5-DBD8-4C10-9DA1-EB19E62BF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7C91A-4D1F-4690-B467-08F2F4DCC8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zipdn102.wav"/><Relationship Id="rId3" Type="http://schemas.openxmlformats.org/officeDocument/2006/relationships/audio" Target="../media/highchime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jetflyby2.wav"/><Relationship Id="rId7" Type="http://schemas.openxmlformats.org/officeDocument/2006/relationships/audio" Target="../media/jetflyby2.wav"/><Relationship Id="rId8" Type="http://schemas.openxmlformats.org/officeDocument/2006/relationships/audio" Target="../media/jetflyby2.wav"/><Relationship Id="rId9" Type="http://schemas.openxmlformats.org/officeDocument/2006/relationships/audio" Target="../media/bserie06.wav"/><Relationship Id="rId10" Type="http://schemas.openxmlformats.org/officeDocument/2006/relationships/audio" Target="../media/bserie06.wav"/><Relationship Id="rId11" Type="http://schemas.openxmlformats.org/officeDocument/2006/relationships/audio" Target="../media/jetflyby2.wav"/><Relationship Id="rId12" Type="http://schemas.openxmlformats.org/officeDocument/2006/relationships/audio" Target="../media/bserie06.wav"/><Relationship Id="rId13" Type="http://schemas.openxmlformats.org/officeDocument/2006/relationships/audio" Target="../media/bserie06.wav"/><Relationship Id="rId14" Type="http://schemas.openxmlformats.org/officeDocument/2006/relationships/audio" Target="../media/jetflyby2.wav"/><Relationship Id="rId15" Type="http://schemas.openxmlformats.org/officeDocument/2006/relationships/audio" Target="../media/bserie06.wav"/><Relationship Id="rId16" Type="http://schemas.openxmlformats.org/officeDocument/2006/relationships/audio" Target="../media/bserie06.wav"/><Relationship Id="rId17" Type="http://schemas.openxmlformats.org/officeDocument/2006/relationships/audio" Target="../media/jetflyby2.wav"/><Relationship Id="rId18" Type="http://schemas.openxmlformats.org/officeDocument/2006/relationships/audio" Target="../media/zipdn102.wav"/><Relationship Id="rId19" Type="http://schemas.openxmlformats.org/officeDocument/2006/relationships/audio" Target="../media/zipdn102.wav"/><Relationship Id="rId20" Type="http://schemas.openxmlformats.org/officeDocument/2006/relationships/audio" Target="../media/zipdn102.wav"/><Relationship Id="rId2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zipdn102.wav"/><Relationship Id="rId2" Type="http://schemas.openxmlformats.org/officeDocument/2006/relationships/audio" Target="../media/highchime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jetflyby2.wav"/><Relationship Id="rId6" Type="http://schemas.openxmlformats.org/officeDocument/2006/relationships/audio" Target="../media/jetflyby2.wav"/><Relationship Id="rId7" Type="http://schemas.openxmlformats.org/officeDocument/2006/relationships/audio" Target="../media/jetflyby2.wav"/><Relationship Id="rId8" Type="http://schemas.openxmlformats.org/officeDocument/2006/relationships/audio" Target="../media/bserie06.wav"/><Relationship Id="rId9" Type="http://schemas.openxmlformats.org/officeDocument/2006/relationships/audio" Target="../media/bserie06.wav"/><Relationship Id="rId10" Type="http://schemas.openxmlformats.org/officeDocument/2006/relationships/audio" Target="../media/jetflyby2.wav"/><Relationship Id="rId11" Type="http://schemas.openxmlformats.org/officeDocument/2006/relationships/audio" Target="../media/bserie06.wav"/><Relationship Id="rId12" Type="http://schemas.openxmlformats.org/officeDocument/2006/relationships/audio" Target="../media/bserie06.wav"/><Relationship Id="rId13" Type="http://schemas.openxmlformats.org/officeDocument/2006/relationships/audio" Target="../media/jetflyby2.wav"/><Relationship Id="rId14" Type="http://schemas.openxmlformats.org/officeDocument/2006/relationships/audio" Target="../media/bserie06.wav"/><Relationship Id="rId15" Type="http://schemas.openxmlformats.org/officeDocument/2006/relationships/audio" Target="../media/bserie06.wav"/><Relationship Id="rId16" Type="http://schemas.openxmlformats.org/officeDocument/2006/relationships/audio" Target="../media/jetflyby2.wav"/><Relationship Id="rId17" Type="http://schemas.openxmlformats.org/officeDocument/2006/relationships/audio" Target="../media/zipdn102.wav"/><Relationship Id="rId18" Type="http://schemas.openxmlformats.org/officeDocument/2006/relationships/audio" Target="../media/zipdn102.wav"/><Relationship Id="rId19" Type="http://schemas.openxmlformats.org/officeDocument/2006/relationships/audio" Target="../media/zipdn102.wav"/><Relationship Id="rId2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zipdn102.wav"/><Relationship Id="rId2" Type="http://schemas.openxmlformats.org/officeDocument/2006/relationships/audio" Target="../media/highchime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jetflyby2.wav"/><Relationship Id="rId6" Type="http://schemas.openxmlformats.org/officeDocument/2006/relationships/audio" Target="../media/jetflyby2.wav"/><Relationship Id="rId7" Type="http://schemas.openxmlformats.org/officeDocument/2006/relationships/audio" Target="../media/jetflyby2.wav"/><Relationship Id="rId8" Type="http://schemas.openxmlformats.org/officeDocument/2006/relationships/audio" Target="../media/bserie06.wav"/><Relationship Id="rId9" Type="http://schemas.openxmlformats.org/officeDocument/2006/relationships/audio" Target="../media/bserie06.wav"/><Relationship Id="rId10" Type="http://schemas.openxmlformats.org/officeDocument/2006/relationships/audio" Target="../media/jetflyby2.wav"/><Relationship Id="rId11" Type="http://schemas.openxmlformats.org/officeDocument/2006/relationships/audio" Target="../media/bserie06.wav"/><Relationship Id="rId12" Type="http://schemas.openxmlformats.org/officeDocument/2006/relationships/audio" Target="../media/bserie06.wav"/><Relationship Id="rId13" Type="http://schemas.openxmlformats.org/officeDocument/2006/relationships/audio" Target="../media/jetflyby2.wav"/><Relationship Id="rId14" Type="http://schemas.openxmlformats.org/officeDocument/2006/relationships/audio" Target="../media/bserie06.wav"/><Relationship Id="rId15" Type="http://schemas.openxmlformats.org/officeDocument/2006/relationships/audio" Target="../media/bserie06.wav"/><Relationship Id="rId16" Type="http://schemas.openxmlformats.org/officeDocument/2006/relationships/audio" Target="../media/jetflyby2.wav"/><Relationship Id="rId17" Type="http://schemas.openxmlformats.org/officeDocument/2006/relationships/audio" Target="../media/zipdn102.wav"/><Relationship Id="rId18" Type="http://schemas.openxmlformats.org/officeDocument/2006/relationships/audio" Target="../media/zipdn102.wav"/><Relationship Id="rId19" Type="http://schemas.openxmlformats.org/officeDocument/2006/relationships/audio" Target="../media/zipdn102.wav"/><Relationship Id="rId2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zipdn102.wav"/><Relationship Id="rId2" Type="http://schemas.openxmlformats.org/officeDocument/2006/relationships/audio" Target="../media/highchime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jetflyby2.wav"/><Relationship Id="rId6" Type="http://schemas.openxmlformats.org/officeDocument/2006/relationships/audio" Target="../media/jetflyby2.wav"/><Relationship Id="rId7" Type="http://schemas.openxmlformats.org/officeDocument/2006/relationships/audio" Target="../media/jetflyby2.wav"/><Relationship Id="rId8" Type="http://schemas.openxmlformats.org/officeDocument/2006/relationships/audio" Target="../media/bserie06.wav"/><Relationship Id="rId9" Type="http://schemas.openxmlformats.org/officeDocument/2006/relationships/audio" Target="../media/bserie06.wav"/><Relationship Id="rId10" Type="http://schemas.openxmlformats.org/officeDocument/2006/relationships/audio" Target="../media/bserie06.wav"/><Relationship Id="rId11" Type="http://schemas.openxmlformats.org/officeDocument/2006/relationships/audio" Target="../media/jetflyby2.wav"/><Relationship Id="rId12" Type="http://schemas.openxmlformats.org/officeDocument/2006/relationships/audio" Target="../media/bserie06.wav"/><Relationship Id="rId13" Type="http://schemas.openxmlformats.org/officeDocument/2006/relationships/audio" Target="../media/bserie06.wav"/><Relationship Id="rId14" Type="http://schemas.openxmlformats.org/officeDocument/2006/relationships/audio" Target="../media/bserie06.wav"/><Relationship Id="rId15" Type="http://schemas.openxmlformats.org/officeDocument/2006/relationships/audio" Target="../media/jetflyby2.wav"/><Relationship Id="rId16" Type="http://schemas.openxmlformats.org/officeDocument/2006/relationships/audio" Target="../media/bserie06.wav"/><Relationship Id="rId17" Type="http://schemas.openxmlformats.org/officeDocument/2006/relationships/audio" Target="../media/bserie06.wav"/><Relationship Id="rId18" Type="http://schemas.openxmlformats.org/officeDocument/2006/relationships/audio" Target="../media/bserie06.wav"/><Relationship Id="rId19" Type="http://schemas.openxmlformats.org/officeDocument/2006/relationships/audio" Target="../media/jetflyby2.wav"/><Relationship Id="rId20" Type="http://schemas.openxmlformats.org/officeDocument/2006/relationships/audio" Target="../media/zipdn102.wav"/><Relationship Id="rId21" Type="http://schemas.openxmlformats.org/officeDocument/2006/relationships/audio" Target="../media/zipdn102.wav"/><Relationship Id="rId22" Type="http://schemas.openxmlformats.org/officeDocument/2006/relationships/audio" Target="../media/zipdn102.wav"/><Relationship Id="rId2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zipdn102.wav"/><Relationship Id="rId2" Type="http://schemas.openxmlformats.org/officeDocument/2006/relationships/audio" Target="../media/highchime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jetflyby2.wav"/><Relationship Id="rId6" Type="http://schemas.openxmlformats.org/officeDocument/2006/relationships/audio" Target="../media/jetflyby2.wav"/><Relationship Id="rId7" Type="http://schemas.openxmlformats.org/officeDocument/2006/relationships/audio" Target="../media/jetflyby2.wav"/><Relationship Id="rId8" Type="http://schemas.openxmlformats.org/officeDocument/2006/relationships/audio" Target="../media/bserie06.wav"/><Relationship Id="rId9" Type="http://schemas.openxmlformats.org/officeDocument/2006/relationships/audio" Target="../media/bserie06.wav"/><Relationship Id="rId10" Type="http://schemas.openxmlformats.org/officeDocument/2006/relationships/audio" Target="../media/bserie06.wav"/><Relationship Id="rId11" Type="http://schemas.openxmlformats.org/officeDocument/2006/relationships/audio" Target="../media/jetflyby2.wav"/><Relationship Id="rId12" Type="http://schemas.openxmlformats.org/officeDocument/2006/relationships/audio" Target="../media/bserie06.wav"/><Relationship Id="rId13" Type="http://schemas.openxmlformats.org/officeDocument/2006/relationships/audio" Target="../media/bserie06.wav"/><Relationship Id="rId14" Type="http://schemas.openxmlformats.org/officeDocument/2006/relationships/audio" Target="../media/bserie06.wav"/><Relationship Id="rId15" Type="http://schemas.openxmlformats.org/officeDocument/2006/relationships/audio" Target="../media/jetflyby2.wav"/><Relationship Id="rId16" Type="http://schemas.openxmlformats.org/officeDocument/2006/relationships/audio" Target="../media/bserie06.wav"/><Relationship Id="rId17" Type="http://schemas.openxmlformats.org/officeDocument/2006/relationships/audio" Target="../media/bserie06.wav"/><Relationship Id="rId18" Type="http://schemas.openxmlformats.org/officeDocument/2006/relationships/audio" Target="../media/bserie06.wav"/><Relationship Id="rId19" Type="http://schemas.openxmlformats.org/officeDocument/2006/relationships/audio" Target="../media/jetflyby2.wav"/><Relationship Id="rId20" Type="http://schemas.openxmlformats.org/officeDocument/2006/relationships/audio" Target="../media/zipdn102.wav"/><Relationship Id="rId21" Type="http://schemas.openxmlformats.org/officeDocument/2006/relationships/audio" Target="../media/zipdn102.wav"/><Relationship Id="rId22" Type="http://schemas.openxmlformats.org/officeDocument/2006/relationships/audio" Target="../media/zipdn102.wav"/><Relationship Id="rId2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zipdn102.wav"/><Relationship Id="rId2" Type="http://schemas.openxmlformats.org/officeDocument/2006/relationships/audio" Target="../media/highchime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jetflyby2.wav"/><Relationship Id="rId6" Type="http://schemas.openxmlformats.org/officeDocument/2006/relationships/audio" Target="../media/jetflyby2.wav"/><Relationship Id="rId7" Type="http://schemas.openxmlformats.org/officeDocument/2006/relationships/audio" Target="../media/jetflyby2.wav"/><Relationship Id="rId8" Type="http://schemas.openxmlformats.org/officeDocument/2006/relationships/audio" Target="../media/bserie06.wav"/><Relationship Id="rId9" Type="http://schemas.openxmlformats.org/officeDocument/2006/relationships/audio" Target="../media/bserie06.wav"/><Relationship Id="rId10" Type="http://schemas.openxmlformats.org/officeDocument/2006/relationships/audio" Target="../media/bserie06.wav"/><Relationship Id="rId11" Type="http://schemas.openxmlformats.org/officeDocument/2006/relationships/audio" Target="../media/jetflyby2.wav"/><Relationship Id="rId12" Type="http://schemas.openxmlformats.org/officeDocument/2006/relationships/audio" Target="../media/bserie06.wav"/><Relationship Id="rId13" Type="http://schemas.openxmlformats.org/officeDocument/2006/relationships/audio" Target="../media/bserie06.wav"/><Relationship Id="rId14" Type="http://schemas.openxmlformats.org/officeDocument/2006/relationships/audio" Target="../media/jetflyby2.wav"/><Relationship Id="rId15" Type="http://schemas.openxmlformats.org/officeDocument/2006/relationships/audio" Target="../media/bserie06.wav"/><Relationship Id="rId16" Type="http://schemas.openxmlformats.org/officeDocument/2006/relationships/audio" Target="../media/bserie06.wav"/><Relationship Id="rId17" Type="http://schemas.openxmlformats.org/officeDocument/2006/relationships/audio" Target="../media/jetflyby2.wav"/><Relationship Id="rId18" Type="http://schemas.openxmlformats.org/officeDocument/2006/relationships/audio" Target="../media/zipdn102.wav"/><Relationship Id="rId19" Type="http://schemas.openxmlformats.org/officeDocument/2006/relationships/audio" Target="../media/zipdn102.wav"/><Relationship Id="rId20" Type="http://schemas.openxmlformats.org/officeDocument/2006/relationships/audio" Target="../media/zipdn102.wav"/><Relationship Id="rId2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3 – 3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84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Find three ordered pairs for each equ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277920" y="1203480"/>
                <a:ext cx="307656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44" name=""/>
          <p:cNvGraphicFramePr/>
          <p:nvPr/>
        </p:nvGraphicFramePr>
        <p:xfrm>
          <a:off x="679320" y="2114640"/>
          <a:ext cx="5772240" cy="1996920"/>
        </p:xfrm>
        <a:graphic>
          <a:graphicData uri="http://schemas.openxmlformats.org/drawingml/2006/table">
            <a:tbl>
              <a:tblPr/>
              <a:tblGrid>
                <a:gridCol w="2387880"/>
                <a:gridCol w="1166760"/>
                <a:gridCol w="1154160"/>
                <a:gridCol w="1063440"/>
              </a:tblGrid>
              <a:tr h="99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99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1681200" y="2390760"/>
                <a:ext cx="44928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830160" y="3284640"/>
                <a:ext cx="216540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3224160" y="2336760"/>
                <a:ext cx="73512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4629240" y="2338560"/>
                <a:ext cx="407880" cy="60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5765760" y="2351160"/>
                <a:ext cx="32544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614520" y="4264200"/>
                <a:ext cx="241128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588960" y="4794120"/>
                <a:ext cx="12254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3494160" y="3316320"/>
                <a:ext cx="3254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7800" y="4284720"/>
                <a:ext cx="21254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3182760" y="4829040"/>
                <a:ext cx="130680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602240" y="3324240"/>
                <a:ext cx="44748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5425920" y="4264200"/>
                <a:ext cx="204336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5400720" y="4808520"/>
                <a:ext cx="12650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5718240" y="3313080"/>
                <a:ext cx="40644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6981840" y="1703520"/>
                <a:ext cx="160812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7201080" y="2538360"/>
                <a:ext cx="133164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,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7291440" y="3386160"/>
                <a:ext cx="119520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,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nodeType="after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3 – 3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684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Find three ordered pairs for each equ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255600" y="1203480"/>
                <a:ext cx="312264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65" name=""/>
          <p:cNvGraphicFramePr/>
          <p:nvPr/>
        </p:nvGraphicFramePr>
        <p:xfrm>
          <a:off x="679320" y="2114640"/>
          <a:ext cx="5772240" cy="1996920"/>
        </p:xfrm>
        <a:graphic>
          <a:graphicData uri="http://schemas.openxmlformats.org/drawingml/2006/table">
            <a:tbl>
              <a:tblPr/>
              <a:tblGrid>
                <a:gridCol w="2387880"/>
                <a:gridCol w="1166760"/>
                <a:gridCol w="1154160"/>
                <a:gridCol w="1063440"/>
              </a:tblGrid>
              <a:tr h="99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99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1681200" y="2390760"/>
                <a:ext cx="44928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851040" y="3284640"/>
                <a:ext cx="212400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3224160" y="2336760"/>
                <a:ext cx="73512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4629240" y="2338560"/>
                <a:ext cx="407880" cy="60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5765760" y="2351160"/>
                <a:ext cx="32544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633240" y="4292640"/>
                <a:ext cx="23720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893880" y="4879800"/>
                <a:ext cx="1633320" cy="7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3230640" y="3295800"/>
                <a:ext cx="8539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3206880" y="4284720"/>
                <a:ext cx="20858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3340080" y="4873680"/>
                <a:ext cx="163368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4419720" y="3305160"/>
                <a:ext cx="81432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5446800" y="4264200"/>
                <a:ext cx="200160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5581800" y="4838760"/>
                <a:ext cx="163188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5494320" y="3333600"/>
                <a:ext cx="85392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826320" y="1703520"/>
                <a:ext cx="206676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7016760" y="2538360"/>
                <a:ext cx="170028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7064280" y="3371760"/>
                <a:ext cx="156384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3 – 3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684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Find three ordered pairs for each equ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06360" y="1231920"/>
                <a:ext cx="252576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86" name=""/>
          <p:cNvGraphicFramePr/>
          <p:nvPr/>
        </p:nvGraphicFramePr>
        <p:xfrm>
          <a:off x="679320" y="2114640"/>
          <a:ext cx="5772240" cy="1996920"/>
        </p:xfrm>
        <a:graphic>
          <a:graphicData uri="http://schemas.openxmlformats.org/drawingml/2006/table">
            <a:tbl>
              <a:tblPr/>
              <a:tblGrid>
                <a:gridCol w="2387880"/>
                <a:gridCol w="1166760"/>
                <a:gridCol w="1154160"/>
                <a:gridCol w="1063440"/>
              </a:tblGrid>
              <a:tr h="99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99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1681200" y="2390760"/>
                <a:ext cx="44928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1095480" y="3284640"/>
                <a:ext cx="16351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3224160" y="2336760"/>
                <a:ext cx="73512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4629240" y="2338560"/>
                <a:ext cx="407880" cy="60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5765760" y="2351160"/>
                <a:ext cx="32544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673200" y="4272120"/>
                <a:ext cx="2290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893880" y="4879800"/>
                <a:ext cx="1633320" cy="7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3230640" y="3316320"/>
                <a:ext cx="85392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3267000" y="4251240"/>
                <a:ext cx="196380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3503520" y="4873680"/>
                <a:ext cx="13064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4622760" y="3305160"/>
                <a:ext cx="40788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5527800" y="4214880"/>
                <a:ext cx="183816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5745240" y="4838760"/>
                <a:ext cx="130500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5697360" y="3333600"/>
                <a:ext cx="44784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6826320" y="1703520"/>
                <a:ext cx="206676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7199280" y="2538360"/>
                <a:ext cx="133344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,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7224840" y="3371760"/>
                <a:ext cx="124128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,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500"/>
                            </p:stCondLst>
                            <p:childTnLst>
                              <p:par>
                                <p:cTn id="282" nodeType="after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3 – 3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684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Find three ordered pairs for each equ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27160" y="1246320"/>
                <a:ext cx="335268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07" name=""/>
          <p:cNvGraphicFramePr/>
          <p:nvPr/>
        </p:nvGraphicFramePr>
        <p:xfrm>
          <a:off x="679320" y="2114640"/>
          <a:ext cx="5772240" cy="1996920"/>
        </p:xfrm>
        <a:graphic>
          <a:graphicData uri="http://schemas.openxmlformats.org/drawingml/2006/table">
            <a:tbl>
              <a:tblPr/>
              <a:tblGrid>
                <a:gridCol w="2387880"/>
                <a:gridCol w="1166760"/>
                <a:gridCol w="1154160"/>
                <a:gridCol w="1063440"/>
              </a:tblGrid>
              <a:tr h="99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99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681200" y="2390760"/>
                <a:ext cx="44928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747720" y="3284640"/>
                <a:ext cx="233028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3224160" y="2336760"/>
                <a:ext cx="73512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4629240" y="2338560"/>
                <a:ext cx="407880" cy="60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5765760" y="2351160"/>
                <a:ext cx="32544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79280" y="4300560"/>
                <a:ext cx="298620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676440" y="4965840"/>
                <a:ext cx="204120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3454560" y="3295800"/>
                <a:ext cx="4060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3313080" y="4295880"/>
                <a:ext cx="265896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3417840" y="4930920"/>
                <a:ext cx="200196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4664160" y="3324240"/>
                <a:ext cx="3254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6183360" y="4245120"/>
                <a:ext cx="25318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6437160" y="4896000"/>
                <a:ext cx="203868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5556240" y="3333600"/>
                <a:ext cx="73188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7032600" y="1703520"/>
                <a:ext cx="165420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,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7245360" y="2538360"/>
                <a:ext cx="124128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7086600" y="3371760"/>
                <a:ext cx="151776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998640" y="5583240"/>
                <a:ext cx="12650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738600" y="5559480"/>
                <a:ext cx="12254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6669000" y="5522760"/>
                <a:ext cx="159228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"/>
                            </p:stCondLst>
                            <p:childTnLst>
                              <p:par>
                                <p:cTn id="394" nodeType="after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500"/>
                            </p:stCondLst>
                            <p:childTnLst>
                              <p:par>
                                <p:cTn id="399" nodeType="after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3 – 3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684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Find three ordered pairs for each equ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204840" y="1246320"/>
                <a:ext cx="339876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31" name=""/>
          <p:cNvGraphicFramePr/>
          <p:nvPr/>
        </p:nvGraphicFramePr>
        <p:xfrm>
          <a:off x="679320" y="2114640"/>
          <a:ext cx="5772240" cy="1996920"/>
        </p:xfrm>
        <a:graphic>
          <a:graphicData uri="http://schemas.openxmlformats.org/drawingml/2006/table">
            <a:tbl>
              <a:tblPr/>
              <a:tblGrid>
                <a:gridCol w="2387880"/>
                <a:gridCol w="1166760"/>
                <a:gridCol w="1154160"/>
                <a:gridCol w="1063440"/>
              </a:tblGrid>
              <a:tr h="99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99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681200" y="2390760"/>
                <a:ext cx="44928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727200" y="3284640"/>
                <a:ext cx="237168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3224160" y="2336760"/>
                <a:ext cx="73512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4629240" y="2338560"/>
                <a:ext cx="407880" cy="60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5765760" y="2351160"/>
                <a:ext cx="32544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60200" y="4300560"/>
                <a:ext cx="302580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493560" y="4965840"/>
                <a:ext cx="240840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3251160" y="3295800"/>
                <a:ext cx="812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3292560" y="4295880"/>
                <a:ext cx="270036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3378240" y="4930920"/>
                <a:ext cx="208260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4419720" y="3305160"/>
                <a:ext cx="81432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6143760" y="4245120"/>
                <a:ext cx="26128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6416640" y="4896000"/>
                <a:ext cx="20797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5495760" y="3333600"/>
                <a:ext cx="85428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6826320" y="1703520"/>
                <a:ext cx="206676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7015320" y="2538360"/>
                <a:ext cx="170172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7064280" y="3371760"/>
                <a:ext cx="156384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816120" y="5583240"/>
                <a:ext cx="163188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3535200" y="5559480"/>
                <a:ext cx="163368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6649920" y="5522760"/>
                <a:ext cx="16322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500"/>
                            </p:stCondLst>
                            <p:childTnLst>
                              <p:par>
                                <p:cTn id="534" nodeType="after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3 – 3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684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Find three ordered pairs for each equ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343080" y="1246320"/>
                <a:ext cx="312228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55" name=""/>
          <p:cNvGraphicFramePr/>
          <p:nvPr/>
        </p:nvGraphicFramePr>
        <p:xfrm>
          <a:off x="679320" y="2114640"/>
          <a:ext cx="5772240" cy="1996920"/>
        </p:xfrm>
        <a:graphic>
          <a:graphicData uri="http://schemas.openxmlformats.org/drawingml/2006/table">
            <a:tbl>
              <a:tblPr/>
              <a:tblGrid>
                <a:gridCol w="2387880"/>
                <a:gridCol w="1166760"/>
                <a:gridCol w="1154160"/>
                <a:gridCol w="1063440"/>
              </a:tblGrid>
              <a:tr h="99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99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1681200" y="2390760"/>
                <a:ext cx="44928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849240" y="3284640"/>
                <a:ext cx="212580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3224160" y="2336760"/>
                <a:ext cx="73512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4629240" y="2338560"/>
                <a:ext cx="407880" cy="60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5765760" y="2351160"/>
                <a:ext cx="32544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282600" y="4300560"/>
                <a:ext cx="277956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677880" y="4965840"/>
                <a:ext cx="203976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3433680" y="3295800"/>
                <a:ext cx="4478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3414600" y="4295880"/>
                <a:ext cx="245592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4622760" y="3305160"/>
                <a:ext cx="40788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6265800" y="4245120"/>
                <a:ext cx="236844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5719680" y="3314880"/>
                <a:ext cx="40644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7010280" y="1703520"/>
                <a:ext cx="169884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,7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7199280" y="2538360"/>
                <a:ext cx="133344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,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7248600" y="3371760"/>
                <a:ext cx="119520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,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977760" y="5583240"/>
                <a:ext cx="130680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3800520" y="4964040"/>
                <a:ext cx="13064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6724800" y="4929120"/>
                <a:ext cx="13064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500"/>
                            </p:stCondLst>
                            <p:childTnLst>
                              <p:par>
                                <p:cTn id="664" nodeType="after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1500"/>
                            </p:stCondLst>
                            <p:childTnLst>
                              <p:par>
                                <p:cTn id="669" nodeType="after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1338120"/>
            <a:ext cx="9144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327, 13 – 3 #1 – 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orksheet pg 123/14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.skelton</cp:lastModifiedBy>
  <dcterms:modified xsi:type="dcterms:W3CDTF">2005-02-24T18:53:40Z</dcterms:modified>
  <cp:revision>116</cp:revision>
  <dc:subject/>
  <dc:title>Slide 1</dc:title>
</cp:coreProperties>
</file>